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19A-3EE9-4774-A3CF-A90806C7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D81A-18C7-4B34-9A73-AFB63E1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055-4F1A-4036-A006-1AAD7E54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F69-4EBE-4732-A449-E325042D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1F3C-1DDC-4AE1-A522-2EDED9E5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69FC-E1EB-4C12-A5CB-B391AE5A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411-D922-44F0-A5BA-4782DF54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BDEE-1E1A-4F0E-AA9E-12675FC6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4CEE-3DB2-4D65-8DB2-2366F9A2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AE85-F234-4BB9-96B7-ECE75D53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956D-3249-4688-88CC-6B501E50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A7F-96A9-405D-9088-8249F7F7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D2F1-F0D9-4C08-B5E8-694FC688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BA6D-2C5D-40CF-AC0B-7DD07C8A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0A96-159D-4B84-8912-C4BB7197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6DFA-EB48-4374-B151-4C63193F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E9693-FC78-452F-86A8-7549C74F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C34-6826-4276-A497-8C0C9293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BE3-EB27-4727-8FEF-214F4E91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8EA-97E7-4015-B40E-0902E4AE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ED3B-1D1D-49A0-8EEC-AA14069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338-5D70-4E22-8079-DDB08621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FCA-22E3-4DBE-B80D-51BE9966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42F-165A-4D1E-808B-6EE6E94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9057-C201-4F53-8210-A7EDFDE4ACE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2B74-947C-4DDB-9C80-41C99B65282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Papyrus"/>
              </a:rPr>
              <a:t>Conflict of Interests</a:t>
            </a:r>
            <a:br>
              <a:rPr sz="3600"/>
            </a:br>
            <a:r>
              <a:rPr b="1" i="1" lang="en-US" sz="2800" spc="-1" strike="noStrike">
                <a:solidFill>
                  <a:srgbClr val="003366"/>
                </a:solidFill>
                <a:latin typeface="Papyrus"/>
              </a:rPr>
              <a:t>The Politics of American Education</a:t>
            </a:r>
            <a:br>
              <a:rPr sz="2800"/>
            </a:br>
            <a:br>
              <a:rPr sz="2400"/>
            </a:br>
            <a:r>
              <a:rPr b="1" lang="en-US" sz="1800" spc="-1" strike="noStrike">
                <a:solidFill>
                  <a:srgbClr val="003366"/>
                </a:solidFill>
                <a:latin typeface="Papyrus"/>
              </a:rPr>
              <a:t>by Joel Spring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7960" y="2819520"/>
            <a:ext cx="40129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Papyrus"/>
              </a:rPr>
              <a:t>Chapter 10: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Papyrus"/>
              </a:rPr>
              <a:t>Political Uses of the Cour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Papyrus"/>
              </a:rPr>
              <a:t>by Trish Walsh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Papyrus"/>
              </a:rPr>
              <a:t>September 19, 2008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48520" y="620280"/>
            <a:ext cx="7751160" cy="11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Political Uses of the Court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ourt system is usually involved in class action law suits against school districts after problems have traveled through school boards, state courts and other federal governmen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cases are regarding religion, race, language, disabilities, and constitutional amend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Problem #1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resentation in a class action law su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the group suing really representative of the population it claims to represen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es the group represent the array of viewpoints among the specified clas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urts’ final decisions have far-reaching impact in societ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Problem #2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courts’ ability to deal with evidence in educational ca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judges understand the evidence well enough to rule and specify the best remedi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o judges understand the consequences of their recommendations in educational setting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idence in educational cases is not always presented as undisputed fact; social science data can be debatabl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Amendment Issue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20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mend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reedom of speech &amp; religion-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edge of allegiance, critical thinking/questioning, school prayer, war protes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8</a:t>
            </a:r>
            <a:r>
              <a:rPr b="1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mend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reedom from cruel &amp; unusual punishment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poral punish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14</a:t>
            </a:r>
            <a:r>
              <a:rPr b="1" lang="en-US" sz="20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Amendment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ue process/non-discrimination-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equal educational opportunities for all minority groups, equal protection under the law, students’ right to education, teachers’ right to employment, property rights, suspen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Papyrus"/>
              </a:rPr>
              <a:t>Famous Cases</a:t>
            </a: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tero v. Mesa County Valley School District #51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cial Science concepts and evidence must be understood by judges. Legitimate representation and rulings are essenti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bson v. Hansen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t is difficult for courts to provide remedies for social problems, but they have a great impact on educational policies.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Papyrus"/>
              </a:rPr>
              <a:t>In Summati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 must be prepared to deal realistically with big issues and aware of precedent set in the court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 should understand and work with school and district populations and their representatives and be in tune with the related social science dat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nistrators need to help teachers be aware of potential amendment issues that could affect them inside the classroom or at schoo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3:34:21Z</dcterms:created>
  <dc:creator>Da Walsh's</dc:creator>
  <dc:description/>
  <dc:language>en-US</dc:language>
  <cp:lastModifiedBy>Da Walsh's</cp:lastModifiedBy>
  <dcterms:modified xsi:type="dcterms:W3CDTF">2008-09-18T04:28:49Z</dcterms:modified>
  <cp:revision>22</cp:revision>
  <dc:subject/>
  <dc:title>Conflict of Interests The Politics of American Education by Joel Spring</dc:title>
</cp:coreProperties>
</file>